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E5FC-A3FA-40A1-9B1D-407C979C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1B28-CFC4-46B7-9666-B67AA9F4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493A-D6BF-4C40-8FF1-9CDF5B7B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8FBC-8792-40F7-B75B-1CB42F70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3833-DBDF-4B18-9B98-3AA4CC9F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AE2C-7BFF-4821-9060-044A0BEF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1726-A6A9-4029-BE17-D212EB68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91D6-46EF-445D-B460-23D10C24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E7A9-09FB-4544-AB71-F4D25D96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AA2C-E590-475E-BAF1-F2C04D42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AC8A-8DCC-4525-BFBF-2EAFF04B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8EED-E154-45D5-A803-68E55C75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D0FD-89AB-4474-A0FC-350840459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-D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asion of Norman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Tyrone J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called Neptune or Operation Over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: June 6, 19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the largest invasion of all time, with over  175,000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one of the turning points in WW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nvasion required transport material from the UK by troop laden aircraft shi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ritish campaigned to sabotage various groups with attacking railway lines, ambushing r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borne Assault- In gliders Europe had to reinforce para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ssigned to jump behind the enemy lines at night five ours after coastal landing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each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wight D. Eisenh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e general of the commanding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Germany surrendered he was appointed military govern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tated- “We will accept nothing less than full victory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19920" y="4386240"/>
            <a:ext cx="31240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5:57:44Z</dcterms:created>
  <dc:creator>30957</dc:creator>
  <dc:description/>
  <dc:language>en-US</dc:language>
  <cp:lastModifiedBy>30957</cp:lastModifiedBy>
  <dcterms:modified xsi:type="dcterms:W3CDTF">2009-12-11T19:12:15Z</dcterms:modified>
  <cp:revision>5</cp:revision>
  <dc:subject/>
  <dc:title>D-Day Invasion of Normandy</dc:title>
</cp:coreProperties>
</file>